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5D3-766A-486F-A3FF-CFE178BB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175D-FB0A-4FB9-AEAB-3962D5AB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6769D-E947-4FD2-8A57-64E7B29F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A3A03-F906-4CAA-8E5E-2386B58C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72D07-8064-4625-8051-C78E078B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1B6E8-F2C4-4E64-BE86-E5953C0F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28F9A-7796-4D96-B94A-E7059DCE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1D791-1D78-4FA1-841E-243CB394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01154-6F83-4309-88E8-82F67AD5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87AD9-3313-471D-8F56-485A2D33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DEE0B-AA4F-43BF-B21C-15497EB4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C4BD3-3F46-455C-8C8D-5C6C0E9C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682-9167-4058-99FF-4F4D6B7C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15103-7761-4D52-BCAF-31D54AE3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D4FBF-C78E-4FC1-BAED-7F4F7E31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B3104-FF6E-4CF4-BB28-5C5BDE79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C607D-EA84-4770-B7A1-393C336B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DEDEA-78F0-4C68-ABA7-F7ACC3CA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FFF90-2DD8-46B5-AA3C-5B75B775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F5F94-B91E-4C94-A84F-E49EF273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05960-E83F-4156-91EB-A3D511B8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7851D-03FE-4C29-ABE2-ACA4263C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7A5E4-3859-440D-B3AB-A9C10B7F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71D-857D-437E-8EA5-EF640CCB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E3256-E75C-4721-B3A2-E77E380C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7D215-D6A8-4FA9-A5C2-AD730248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FDEC2-AA41-42E5-8661-4EF7F85B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E982D-8068-4AE2-A77B-3A0FF95B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7F454-3CA1-47CD-B9A3-10CAB7FC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9B563-DF39-4598-94D4-A63C74F0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05439-2831-4C14-8CA6-00F731D0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DD1DD-2876-4E02-8518-0FFF9FC5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BB13A-8F81-4796-9009-4389049E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0D17D-02D2-460D-9D70-868D0C8B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0F81-FA2F-46D4-B837-0B802E20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99B2C-75EA-414A-9A48-A1C227A1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B41E4-8726-4782-91BE-39291A12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667FF-B6AE-4F62-A87C-99603002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3182A-E3C7-4B44-ACD6-2915D109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2DC22-2126-46DB-91A9-5EC871D0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8EA29-AE98-4ECB-922E-612FB0A5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484B2-CAA6-401A-945D-146D1B18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63BA9-AD59-49FF-B2EF-78BFFF58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B85E0-3FE3-49D6-B282-E45001B9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443F1-EE1E-497E-AC11-F67F6746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EA01-D264-44DC-BD73-EBB61840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1D4AD-041A-4402-AAAB-140B07D7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EC497-2DCE-42AB-95DF-1529BC58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D9E0D-6EF0-43DC-8AC5-CCB96430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B4025-F5C3-447E-8C1D-F3073119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90B3E-FE54-4529-8C32-95DDC1E4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18B49-62E4-4717-A04D-C961D83B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FA243-8B5C-4083-A2BD-354BB481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3E977-4582-4FAD-BAEE-B4262DFB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1DA1C-C91E-45B9-9942-F26B3F5C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45E97-6B53-47E1-87C8-A4ED5365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6DBB-FB9B-4747-9FE3-195CEB36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B4F1D-3B0E-44D3-B37F-24B2ADA9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972BC-B6E3-4D1E-99F7-3C924113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43B48-CAF9-4570-A88F-DDEB5E64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E67E1-9A02-4C40-B9D2-EE902E9E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68625-F7AD-4317-A7F4-6A3A4A0E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D7667-BFFB-4A1D-948B-DCC7717E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C55D0-183C-464B-9804-1A0A9AC9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A01C6-DD3E-47B8-901B-07308D06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454BF-3BAC-4684-A4F3-FEE60897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94C20-1A46-4B78-805F-61A254D8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F98E-D804-4C15-9A51-57F0E6A6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FF617-C7A9-40D2-BA38-88C729F3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D64C3-ACB1-4D59-A6F2-4903FD4D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68CD01-FB3E-496B-B1A4-FDCE5B82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5BE900-4F08-4B38-9154-AABDCA9E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A597F9-03B7-40B1-AFEE-2E92B59A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EBAF3-E2FB-45CA-8329-96D56118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B0404-B06B-4919-BB64-05F69471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373C6-11CD-4B68-B915-31CE59C3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44D0D-A9AE-4558-A306-6B3FACC7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0C1812-8E97-44C7-AB7F-B91859CE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72EE-8448-408B-86E0-6FDB7F36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3C702-17A8-4158-884A-FCCF91EE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2E0252-2FFE-47E9-A297-E0379A04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B26547-123D-45FE-8C18-4C6556EA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B6E31C-1E6D-445B-AF60-85003971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2FB4AF-B9A8-46BC-8AF8-7E43E115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39F6A-568C-42A3-9525-A09D8CB5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01D8A5-9E7D-4A85-BDDF-92BB9F0C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B1C14-9AE5-4AE5-B078-56056CAE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5D824-3CD7-49A6-818F-107A11F7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D0367-2B7E-42BB-ADA1-6C35DB84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5D46-B0F4-4A5E-9454-39CD6221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58736-167D-4762-BB11-EE57DB44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812FE5-5D5D-474D-A426-3223F905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E67B1D-A237-419A-BA1E-77329180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317048-1179-4A25-AA40-3ED53D18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E3EAD9-FFBA-4A3D-88D7-90BBFD3C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C88142-7FFD-4540-9244-5E666122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B7386-6E5B-4976-9D34-7CA73A5C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EFBCB0-6818-4C16-B76A-D23DB002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3F9BB-70BE-4A12-A5F4-3718911E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CA5547-1ADB-462D-8287-66451BCA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24E9-08FF-468D-9426-D8D7481E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547CB-AAF0-4E50-9681-C11A704C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EAF435-814A-4619-85AC-DCB26A72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9D44B-CEBE-4BDC-8981-FE5D905F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E0656-8DEA-4DBA-A10A-9C6D44CF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68D4F-50B3-4037-8C45-ABE15EDD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AF012C-640E-40AB-AE56-47035351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55937C-E8D7-4983-A84A-A6C3F371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3C39F4-2D0F-43A5-88D0-22B12F29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FE371D-995D-48B3-8592-D41F6D13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84580-6D63-44C4-BBD4-E0159035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33E-CA65-4E6F-B869-D3B49D42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537E-D59E-4CEB-808D-2E6FB43D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9D94E-CDC9-483E-BFD9-7CD208A4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8AC29-F26B-47CE-A374-6AF9F20C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E8D5D-94C6-4C95-88F9-D2B2B8FF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04D3BD-16FF-435A-A367-668BEBC7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F0173-5C20-42EB-8436-20B581CA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C579A5-68A2-40CF-B721-3164E5C4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4A9A8C-81CF-42EA-9F0A-53AF7751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E25896-D362-4AE6-9D1A-D214899A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D98334-A7EA-4A13-8BCE-87E2D972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53BAD-3060-43F9-8372-76DFF98D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6B29-8D54-4076-ACD7-433D7DC0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7E7069-A818-4F32-9893-8A2125DD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ED27D-5FF7-4F52-B02F-5BC7C8E7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3431A5-91D4-46F5-9066-A065B8AD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3FAAE5-69F8-4A4A-BCEC-7F5F695B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A30FEB-E3C7-4FA9-ACEA-D7B6A4FB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0E7A0B-9C88-4416-8E17-8696C674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76DEE2-DEA2-4DF3-8178-441E5D31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10D237-5F30-4629-B814-33314AD5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6D5B5E-444C-42C9-8C9E-6B5A7E24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F394B-3CD5-45A0-A9B5-5ED7D42E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5F98-C8AC-4F7F-9DA7-8B4E05E6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C75D4E-65D6-4AA8-8FA3-4DBD089F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DC5B89-FE29-4DF9-AF27-1CBAD8D5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B5933-7EA8-479A-957E-770FD5F8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E0C293-477F-44E8-9874-A2C83C5F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E5FC6F-1018-4AB7-B8CC-300B0F78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EB5ECC-5013-4872-9CB0-173055BA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BEC2AB-F6DA-42DA-8154-19075BAC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C077C9-1C60-4410-BEB3-6359631D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E0E8A8-D1E3-4B35-840E-2CD3DB46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61439-F67D-4B38-B600-53C592BB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16F1-A73D-4C86-9A64-7EC50D2E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0DDAAC-0446-4906-A377-5CCB035A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E198E-0D4D-4093-BC91-5DCF1854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9BC730-CB10-4661-9C5A-5571EEFB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69B666-A3D4-4130-92C7-C0784784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31D903-C375-4573-BAC5-EBCD62C9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17F4D9-2C2D-4290-A1C3-42DF6813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36B7E8-2109-4869-BE30-80114FC4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B8EB74-8CCB-4373-9A1F-F02EB892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3C4784-2F3D-4F5B-8346-2A435420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28F22C-664A-4779-8C4A-B781A8A1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3BBD-0B63-4A94-B6B1-271875DA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B2B76E-0C3B-4628-8FBB-1C76B451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A18763-4A51-43CD-A8E0-E114BCC6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0A8053-A629-4056-BA50-0D79F33B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6AED71-15A2-44CF-97D3-A1AFEE45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BBAAFC-F6E0-4C69-9F7A-96252F2C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296698-E3AF-46BD-AC93-21A82070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139CA7-7805-4D79-B306-6DF89B42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D32E30-9D23-46E3-84B4-AD5D4DF0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F308E2-F793-47FC-A564-C85F76B3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565007-69C4-4A33-9823-46E1B10C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D0749-6CFA-4F8C-890C-12401ECD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48256A-8CA6-4282-BBAB-B5E4173D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22BE96-77CF-47A2-82E8-F77E26F3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F00681-8589-496F-AA3D-AF65EC54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7A40-834B-4866-8D97-CF34B9E8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EE4B-2564-440B-A21B-C14D6335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7AB1C-34E7-4A12-B8B2-868667E6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79AAB-E148-4B21-B95F-B2D82DFD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CEA-8B34-4C37-9D1F-527BF376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4C179-B6D6-43DE-A2E1-07CABD99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E83BB-4D33-40F5-82B3-6D5DCB2F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56A2F-BCCF-489D-94FC-F3C78D7C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7604-69C6-4294-991C-5145C2E9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DB92C-55D1-4C4E-AB58-FE45A896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63C22-9FE6-44E2-96A5-DD69B0AB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6A027-8914-45C7-8BB4-C1BF617A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3702D-33EF-493C-BC84-C2C4E915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27E1A-94A7-4B70-8311-167BB957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1C77D-545A-4BD9-AE51-804F10D5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62D-5092-420E-B7FF-7BF111BE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EB6DD-9DCE-437E-9462-FEBEFFD7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C47AB-D392-45DE-9F61-71D37849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99BD8-15BF-4D84-BAA3-5851BE26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82BA1-6F5C-40E1-B3A2-67EC4786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1DD0D-992E-4EF5-8699-A0B5BF3F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EDCB3-FB04-4DB4-9F58-116B6213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58DD4-18BE-496E-9D16-87B41F53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BEEB7-B20F-479D-9C3E-DB4D6962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C4A77-FB46-4FD6-8566-F1F4904C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F5F8C-8202-4B2C-83BC-C343B6E1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EDA-A007-4357-9651-D88CEF9C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978AD-A961-48AD-8CAE-F99C68C5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C58E4-EF61-4564-92ED-33F66FDC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F6D19-DDE2-47E3-AE49-5105EDDD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CA966-5E87-43D4-B301-76CE3A7A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10833-DC11-4815-89AE-AFC07F23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45DA5-858D-4A6E-8127-69E4E44E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23FCB-76BD-4EFD-8368-95973E3E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FC76F-980F-48EC-8217-D0FF4227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5EA70-452A-48FF-BC26-AF46359D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718B7-7A3C-4992-B453-9C6210FA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1FB-E111-479F-930F-187C3674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63B66-C4D2-44AC-8F6C-850AB438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D182E-AECC-4D2A-8DB1-9808E212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451A0-0889-41DB-AA80-89087FEA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C950F-2C68-4478-BEBD-E39DB124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B543E-828A-4C9D-8976-81254CD2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60032-91F6-45A4-897D-4337B016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A802C-26E8-4379-9D15-87CDCCA0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96B59-F9EA-4EBA-A8F8-60E5BE66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ECDF8-3972-4993-A8C8-1BF53A28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C700A-93F5-49AA-9978-00864C47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AA4-5EC1-4140-969A-E0CB3E2A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8FF75-09A4-497C-9444-CB200E09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624C4-B8C5-4AD2-B14E-2D11B2B0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62720-8D4C-4138-8D51-C3DFC76F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2D31A-41CD-4316-A06F-B97A1EAA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CC910-D306-4DEB-ABFB-B8D1FBCE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361DB-A97E-4F66-87E4-ED784901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292BC-C941-4F69-ACF0-538EA5DE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DBDE4-89D0-4785-8EAB-805F1618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5CCA7-EAF8-4A29-B1F5-8BF85B5E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1499F-A222-4F22-A452-A6272244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F38-B345-4A55-BB2C-BD6E84C6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F18C2-DADC-4A47-B64A-78CA0D60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FAB92-2D97-4700-BA05-9E213067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6C90B-B09D-4861-BC53-44A4C166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97CAF-A36B-40EF-8689-90F5FF56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3AEBC-0E7D-428D-ADDF-263CB302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E6AD5-AFAB-4326-A1BA-0B4135B1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85108-0DF4-4BA7-9842-47C636E0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3796E-DFD2-4116-ACA1-8BCCEF33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1437A-D6C0-405D-A439-DBB04794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FAE13-76F2-4FB2-AA5E-78D06E36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0D2-F016-4993-B582-7971780A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CE236-FC7E-4C55-9174-FB3C8F96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61DE0-FA7F-4F17-A110-F3F679B7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C27AE-1C13-4047-8D1E-B0E946F7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BF227-C415-4ECF-8119-45BECCA4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3D743-A1ED-4298-B231-3128CE08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F8AA3-4E8C-4483-959B-EA6D5493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8627F-5202-41C9-A8C6-D4D6D1BA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7BA79-1FB2-434C-9816-821C0D43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8F3D8-90EE-4BBD-A660-06E5AF8D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6A782-F74F-4C81-96F2-D8BE9115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354C-4411-4CB0-B2E6-9C7903D371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9FFE-0C33-4543-976C-B8F445DF55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A476-2FB4-4B39-A9BC-603FC9849E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C00B-39AC-4076-B97F-E5508A4A07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103D-E764-451F-8E91-17DA64E6F5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D6E6-ECE6-49D3-A5EE-C25D64EDD8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B593-4690-41A7-A625-8998ADECF3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89F5-09CB-428E-9FBB-CD472AF71A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0566-CD14-4180-9456-C2E2A06A8D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8FCD-8305-43ED-9CE4-C13D1FE967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D295-CD1E-4ACD-B01A-70BA2BA331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6932-C1B8-47FC-B248-1127E2FB6A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9CDD-4D9E-4D8B-B20F-DC5E64D489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4BA9-3DD4-4C74-BBB9-97BA3145E1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E249-0835-4C1D-B675-C50B910CF4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F4D1-9D52-46F7-A111-899A54B734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723E-83C5-409A-96E4-60EB682716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CF5B-61A3-43C4-AE4E-64728933A0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E954-341C-4B91-821D-000533CA4D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C2DC-626A-4FFE-A499-903DE76079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1FC3-EBDE-4CE2-B442-82062B3CD3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7DF4-5242-4E87-9180-4E908ACBB7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2D62-75F8-4DE0-853F-F3BCEA6397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7D02-86C4-4885-90AA-56823A4426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3876-207E-4A40-8A62-73C7977B61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6B62-5D7E-41E5-A403-1F66B2B13E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434F-FC1E-4946-A556-330EA0C786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513F-47C6-42F4-90BB-CE1F6A6F2D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5F81-5AF4-41D3-8678-5B582D6599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B54C-58EA-4601-B80F-AB4FE40218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ABA6-7BA2-4295-AAFA-9188E943E4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F61E-9D22-40F5-A87A-FFE652E046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683C-8DA5-4223-B6D0-85FC624FBD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65F1-DF41-4BC0-B3A8-F8E6C277A0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5730-59C5-46C8-9CD6-BCE3A784A9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56DC-72CC-4E97-8983-FAEA9C6EF9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7BA4-F3C2-40D6-BF83-0D687C87D5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06D1-CE0F-4F44-9131-88C65C8022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4C0A-46F6-4704-9016-4B50345096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E56D-2B45-435D-A9E6-FDF1097E4E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47720" y="2905200"/>
            <a:ext cx="5848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69633" descr=""/>
          <p:cNvPicPr/>
          <p:nvPr/>
        </p:nvPicPr>
        <p:blipFill>
          <a:blip r:embed="rId1"/>
          <a:stretch/>
        </p:blipFill>
        <p:spPr>
          <a:xfrm>
            <a:off x="343080" y="299880"/>
            <a:ext cx="8458200" cy="62582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1116000" y="3701880"/>
            <a:ext cx="5616720" cy="8654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826920" y="4667400"/>
            <a:ext cx="5616720" cy="8650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755640" y="5630760"/>
            <a:ext cx="604836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684360" y="6107040"/>
            <a:ext cx="6048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8609" descr=""/>
          <p:cNvPicPr/>
          <p:nvPr/>
        </p:nvPicPr>
        <p:blipFill>
          <a:blip r:embed="rId1"/>
          <a:stretch/>
        </p:blipFill>
        <p:spPr>
          <a:xfrm>
            <a:off x="1114560" y="1413000"/>
            <a:ext cx="6914880" cy="2114280"/>
          </a:xfrm>
          <a:prstGeom prst="rect">
            <a:avLst/>
          </a:prstGeom>
          <a:ln w="0">
            <a:noFill/>
          </a:ln>
        </p:spPr>
      </p:pic>
      <p:pic>
        <p:nvPicPr>
          <p:cNvPr id="961" name="图片 68610" descr=""/>
          <p:cNvPicPr/>
          <p:nvPr/>
        </p:nvPicPr>
        <p:blipFill>
          <a:blip r:embed="rId2"/>
          <a:stretch/>
        </p:blipFill>
        <p:spPr>
          <a:xfrm>
            <a:off x="33480" y="3735360"/>
            <a:ext cx="9077040" cy="22860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7149960" y="1758960"/>
            <a:ext cx="951120" cy="4935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4413240" y="25066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6948360" y="25066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2095560" y="407664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8"/>
          <a:stretch/>
        </p:blipFill>
        <p:spPr>
          <a:xfrm>
            <a:off x="5983200" y="4076640"/>
            <a:ext cx="1036800" cy="7207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9"/>
          <a:stretch/>
        </p:blipFill>
        <p:spPr>
          <a:xfrm>
            <a:off x="8653320" y="4149720"/>
            <a:ext cx="311400" cy="4935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0"/>
          <a:stretch/>
        </p:blipFill>
        <p:spPr>
          <a:xfrm>
            <a:off x="2484360" y="5027760"/>
            <a:ext cx="951120" cy="4935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1"/>
          <a:stretch/>
        </p:blipFill>
        <p:spPr>
          <a:xfrm>
            <a:off x="5264280" y="4925880"/>
            <a:ext cx="576000" cy="7207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2"/>
          <a:stretch/>
        </p:blipFill>
        <p:spPr>
          <a:xfrm>
            <a:off x="8647200" y="4925880"/>
            <a:ext cx="4683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9" descr=""/>
          <p:cNvPicPr/>
          <p:nvPr/>
        </p:nvPicPr>
        <p:blipFill>
          <a:blip r:embed="rId1"/>
          <a:stretch/>
        </p:blipFill>
        <p:spPr>
          <a:xfrm>
            <a:off x="676440" y="1200240"/>
            <a:ext cx="77911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2671920" y="2100240"/>
            <a:ext cx="3800160" cy="2657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700360" y="2133720"/>
            <a:ext cx="5040360" cy="934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556000" y="3141720"/>
            <a:ext cx="5040360" cy="934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2700360" y="4159080"/>
            <a:ext cx="3959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8373" descr=""/>
          <p:cNvPicPr/>
          <p:nvPr/>
        </p:nvPicPr>
        <p:blipFill>
          <a:blip r:embed="rId1"/>
          <a:stretch/>
        </p:blipFill>
        <p:spPr>
          <a:xfrm>
            <a:off x="905040" y="957240"/>
            <a:ext cx="7333920" cy="4943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1476360" y="3295800"/>
            <a:ext cx="5688000" cy="9252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1116000" y="4365720"/>
            <a:ext cx="5688000" cy="925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1332000" y="5372280"/>
            <a:ext cx="4032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7352" descr=""/>
          <p:cNvPicPr/>
          <p:nvPr/>
        </p:nvPicPr>
        <p:blipFill>
          <a:blip r:embed="rId1"/>
          <a:stretch/>
        </p:blipFill>
        <p:spPr>
          <a:xfrm>
            <a:off x="195120" y="1905120"/>
            <a:ext cx="8753760" cy="30477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532764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532764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826920" y="4379760"/>
            <a:ext cx="5327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6324" descr=""/>
          <p:cNvPicPr/>
          <p:nvPr/>
        </p:nvPicPr>
        <p:blipFill>
          <a:blip r:embed="rId1"/>
          <a:stretch/>
        </p:blipFill>
        <p:spPr>
          <a:xfrm>
            <a:off x="290520" y="871560"/>
            <a:ext cx="8562960" cy="51148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611280" y="436572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611280" y="4941720"/>
            <a:ext cx="828180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395280" y="5473800"/>
            <a:ext cx="82821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299880" y="1257480"/>
            <a:ext cx="8544240" cy="4343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187280" y="3068640"/>
            <a:ext cx="4392720" cy="8650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826920" y="4508640"/>
            <a:ext cx="4176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684360" y="5027760"/>
            <a:ext cx="6335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4276" descr=""/>
          <p:cNvPicPr/>
          <p:nvPr/>
        </p:nvPicPr>
        <p:blipFill>
          <a:blip r:embed="rId1"/>
          <a:stretch/>
        </p:blipFill>
        <p:spPr>
          <a:xfrm>
            <a:off x="262080" y="1581120"/>
            <a:ext cx="8619840" cy="36957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826920" y="3241800"/>
            <a:ext cx="749016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748980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755640" y="4292640"/>
            <a:ext cx="748980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684360" y="4797360"/>
            <a:ext cx="7489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2231" descr=""/>
          <p:cNvPicPr/>
          <p:nvPr/>
        </p:nvPicPr>
        <p:blipFill>
          <a:blip r:embed="rId1"/>
          <a:stretch/>
        </p:blipFill>
        <p:spPr>
          <a:xfrm>
            <a:off x="228600" y="743040"/>
            <a:ext cx="8686800" cy="57816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826920" y="4970520"/>
            <a:ext cx="561672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755640" y="5473800"/>
            <a:ext cx="748836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755640" y="6006960"/>
            <a:ext cx="7488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9:1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